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3.png" ContentType="image/png"/>
  <Override PartName="/ppt/media/image11.png" ContentType="image/png"/>
  <Override PartName="/ppt/media/image3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BE4-DB52-478E-8448-581617C0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843-0C31-4CBF-B0BE-ADDC24FA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B94-7302-439F-B6C6-74A14D92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9D6-F867-478E-9D9D-4F390CE8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898-D60A-4CEA-BE03-EAB3B47C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86E-2D84-428C-8E30-320BF8CA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E61-8D15-44BD-9CB0-3E1552E9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B7A-63AC-401E-8380-06E4EC4B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370-1B5B-42D2-826C-29BFA439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5CF-A27F-4883-807F-DCC154D8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3F4-5AA8-44B4-9AD8-9D380852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7B5-F0CE-42B9-BA46-19D006FD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8430-9264-4C2C-AF99-277467DE42A1}" type="datetime">
              <a:rPr b="0" lang="en-CA" sz="1200" spc="-1" strike="noStrike">
                <a:solidFill>
                  <a:srgbClr val="898989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E31C-3E18-4FB0-BDC5-618007422F3D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ewfoundations.com/GALLERY/Hirsch.html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Calibri"/>
              </a:rPr>
              <a:t>Group 3 &amp;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944640" y="2048040"/>
            <a:ext cx="708336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D Hirs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ttp://www.newfoundations.com/GALLERY/Hirsch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incipal aim of schooling is to promote literacy as an enabling competence" (G, p. 13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knowledge should be a goal of education because it "makes people competent regardless of race, class or ethnicity while also making people more competent in the tasks of life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Rectangle 3" descr=""/>
          <p:cNvPicPr/>
          <p:nvPr/>
        </p:nvPicPr>
        <p:blipFill>
          <a:blip r:embed="rId1"/>
          <a:stretch/>
        </p:blipFill>
        <p:spPr>
          <a:xfrm>
            <a:off x="1901880" y="285840"/>
            <a:ext cx="532764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re knowledge and skill a person has the more they can acqu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is like money, the more money you have the more you can acqu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Rectangle 3" descr=""/>
          <p:cNvPicPr/>
          <p:nvPr/>
        </p:nvPicPr>
        <p:blipFill>
          <a:blip r:embed="rId1"/>
          <a:stretch/>
        </p:blipFill>
        <p:spPr>
          <a:xfrm>
            <a:off x="1073160" y="285840"/>
            <a:ext cx="7040520" cy="109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brain.jpg"/>
          <p:cNvPicPr/>
          <p:nvPr/>
        </p:nvPicPr>
        <p:blipFill>
          <a:blip r:embed="rId2"/>
          <a:stretch/>
        </p:blipFill>
        <p:spPr>
          <a:xfrm>
            <a:off x="3200400" y="3733920"/>
            <a:ext cx="28702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all human communities are founded upon specific shared information, and the basic goal of education in a human community is acculturation - the transmission to children of the specific information shared by the adults of the group or polis" (G, pp. xv-xvi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549360" y="55440"/>
            <a:ext cx="8076960" cy="1103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teach.jpg"/>
          <p:cNvPicPr/>
          <p:nvPr/>
        </p:nvPicPr>
        <p:blipFill>
          <a:blip r:embed="rId2"/>
          <a:stretch/>
        </p:blipFill>
        <p:spPr>
          <a:xfrm>
            <a:off x="3048120" y="4572000"/>
            <a:ext cx="3454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Learning builds on learning" (F, p. 89). The more a person knows, believes Hirsch, the more a person can learn. He calls existing knowledge "mental Velcro", which allows for additional knowledge to become attached to it (J, pp. 70-72)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1295280" y="50292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foundations.com/GALLERY/Hirsc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tangle 4" descr=""/>
          <p:cNvPicPr/>
          <p:nvPr/>
        </p:nvPicPr>
        <p:blipFill>
          <a:blip r:embed="rId2"/>
          <a:stretch/>
        </p:blipFill>
        <p:spPr>
          <a:xfrm>
            <a:off x="1212840" y="208080"/>
            <a:ext cx="619452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the goal of meeting students' individual needs in the classroom has been greatly misused in American educational theory" (I, pp. 28-3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Rectangle 3" descr=""/>
          <p:cNvPicPr/>
          <p:nvPr/>
        </p:nvPicPr>
        <p:blipFill>
          <a:blip r:embed="rId1"/>
          <a:stretch/>
        </p:blipFill>
        <p:spPr>
          <a:xfrm>
            <a:off x="762120" y="208080"/>
            <a:ext cx="74372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rsch says that parents and teachers, and to a lesser degree administrators, are involved in this educational movement. He says that administrators tend to be resistant toward making such a radical change (I, pp. 28-3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Rectangle 3" descr=""/>
          <p:cNvPicPr/>
          <p:nvPr/>
        </p:nvPicPr>
        <p:blipFill>
          <a:blip r:embed="rId1"/>
          <a:stretch/>
        </p:blipFill>
        <p:spPr>
          <a:xfrm>
            <a:off x="1450800" y="360360"/>
            <a:ext cx="5785200" cy="110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parents.jpg"/>
          <p:cNvPicPr/>
          <p:nvPr/>
        </p:nvPicPr>
        <p:blipFill>
          <a:blip r:embed="rId2"/>
          <a:stretch/>
        </p:blipFill>
        <p:spPr>
          <a:xfrm>
            <a:off x="5638680" y="2209680"/>
            <a:ext cx="31878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609120"/>
            <a:ext cx="533412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Giving everybody more knowledge makes everybody more competent, and creates a more just society. Since knowledge is the great equalizer, the schools have a huge opportunity and responsibility to provide more equal life chances for all students, no matter where they come from" (A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brain.jpg"/>
          <p:cNvPicPr/>
          <p:nvPr/>
        </p:nvPicPr>
        <p:blipFill>
          <a:blip r:embed="rId1"/>
          <a:stretch/>
        </p:blipFill>
        <p:spPr>
          <a:xfrm>
            <a:off x="5943600" y="1981080"/>
            <a:ext cx="2882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ly, Hirsch argues that the ideas of the Progressive/Naturalist movements take precedence. However, he believes that Progressivism's consensus is distorted by the use of "scientific-sounding terms, (such as "developmentally appropriate")," and that the disputes of the mainstream scientific community are more accurate (F, p. 2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438280" y="59342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 Hirsch, E.D. (1996). The schools we need and why we don't have them. New York, NY: Double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ectangle 4" descr=""/>
          <p:cNvPicPr/>
          <p:nvPr/>
        </p:nvPicPr>
        <p:blipFill>
          <a:blip r:embed="rId1"/>
          <a:stretch/>
        </p:blipFill>
        <p:spPr>
          <a:xfrm>
            <a:off x="987480" y="133200"/>
            <a:ext cx="67485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un D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ill and 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ful if used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ful if given the right opportunity to perform in the class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ful if students are given the opportunity to see the out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drill.jpg"/>
          <p:cNvPicPr/>
          <p:nvPr/>
        </p:nvPicPr>
        <p:blipFill>
          <a:blip r:embed="rId1"/>
          <a:stretch/>
        </p:blipFill>
        <p:spPr>
          <a:xfrm>
            <a:off x="2286000" y="4267080"/>
            <a:ext cx="43434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3" descr=""/>
          <p:cNvPicPr/>
          <p:nvPr/>
        </p:nvPicPr>
        <p:blipFill>
          <a:blip r:embed="rId1"/>
          <a:stretch/>
        </p:blipFill>
        <p:spPr>
          <a:xfrm>
            <a:off x="2279520" y="285840"/>
            <a:ext cx="5426280" cy="109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839124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ill and 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 if over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 if never referred to as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 if never accompanied by direct instruction and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sad.jpg"/>
          <p:cNvPicPr/>
          <p:nvPr/>
        </p:nvPicPr>
        <p:blipFill>
          <a:blip r:embed="rId1"/>
          <a:stretch/>
        </p:blipFill>
        <p:spPr>
          <a:xfrm>
            <a:off x="2819520" y="4267080"/>
            <a:ext cx="3492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h problems (addition, subtrac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unking of vocabulary 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Ma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143000"/>
            <a:ext cx="5105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ill And 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nding a lot of time in class practicing for th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ing questions to ensure students are on task and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ing to th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533520" y="502920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aspect of Drill and Kill is to teach to a standardized test. The positive side is that the students are on task and subject taught i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4" descr=""/>
          <p:cNvPicPr/>
          <p:nvPr/>
        </p:nvPicPr>
        <p:blipFill>
          <a:blip r:embed="rId1"/>
          <a:stretch/>
        </p:blipFill>
        <p:spPr>
          <a:xfrm>
            <a:off x="2719440" y="-208080"/>
            <a:ext cx="3760560" cy="1324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drill and kill.jpg"/>
          <p:cNvPicPr/>
          <p:nvPr/>
        </p:nvPicPr>
        <p:blipFill>
          <a:blip r:embed="rId2"/>
          <a:stretch/>
        </p:blipFill>
        <p:spPr>
          <a:xfrm>
            <a:off x="5486400" y="160020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0880" y="10666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spent is directly related to the standardized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are not working their way to the final product, simply given the final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al understanding is not achieved, just an understa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2567160" y="-208080"/>
            <a:ext cx="4101840" cy="132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test.jpg"/>
          <p:cNvPicPr/>
          <p:nvPr/>
        </p:nvPicPr>
        <p:blipFill>
          <a:blip r:embed="rId2"/>
          <a:stretch/>
        </p:blipFill>
        <p:spPr>
          <a:xfrm>
            <a:off x="3124080" y="4343400"/>
            <a:ext cx="327672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ttp://www.apa.org/education/k12/practice-acquisition.aspx#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Rectangle 3" descr=""/>
          <p:cNvPicPr/>
          <p:nvPr/>
        </p:nvPicPr>
        <p:blipFill>
          <a:blip r:embed="rId1"/>
          <a:stretch/>
        </p:blipFill>
        <p:spPr>
          <a:xfrm>
            <a:off x="743040" y="-171360"/>
            <a:ext cx="7651800" cy="19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apa.jpg"/>
          <p:cNvPicPr/>
          <p:nvPr/>
        </p:nvPicPr>
        <p:blipFill>
          <a:blip r:embed="rId2"/>
          <a:stretch/>
        </p:blipFill>
        <p:spPr>
          <a:xfrm>
            <a:off x="1523880" y="3733920"/>
            <a:ext cx="60818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manently retain th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automat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able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Rectangle 3" descr=""/>
          <p:cNvPicPr/>
          <p:nvPr/>
        </p:nvPicPr>
        <p:blipFill>
          <a:blip r:embed="rId1"/>
          <a:stretch/>
        </p:blipFill>
        <p:spPr>
          <a:xfrm>
            <a:off x="1749600" y="208080"/>
            <a:ext cx="5333760" cy="1103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practice.jpg"/>
          <p:cNvPicPr/>
          <p:nvPr/>
        </p:nvPicPr>
        <p:blipFill>
          <a:blip r:embed="rId2"/>
          <a:stretch/>
        </p:blipFill>
        <p:spPr>
          <a:xfrm>
            <a:off x="5181480" y="2438280"/>
            <a:ext cx="3505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Rehearsal"/>
          <p:cNvPicPr/>
          <p:nvPr/>
        </p:nvPicPr>
        <p:blipFill>
          <a:blip r:embed="rId1"/>
          <a:stretch/>
        </p:blipFill>
        <p:spPr>
          <a:xfrm>
            <a:off x="27000" y="533520"/>
            <a:ext cx="9199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should point out when a practice has improved the s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ctice with prior knowledge in m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feedback to accompany the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2962440" y="285840"/>
            <a:ext cx="3249360" cy="109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feed.jpg"/>
          <p:cNvPicPr/>
          <p:nvPr/>
        </p:nvPicPr>
        <p:blipFill>
          <a:blip r:embed="rId2"/>
          <a:stretch/>
        </p:blipFill>
        <p:spPr>
          <a:xfrm>
            <a:off x="3124080" y="3886200"/>
            <a:ext cx="29210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361960" y="16761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sive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s and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unking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1670040" y="285840"/>
            <a:ext cx="5632560" cy="109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test.jpg"/>
          <p:cNvPicPr/>
          <p:nvPr/>
        </p:nvPicPr>
        <p:blipFill>
          <a:blip r:embed="rId2"/>
          <a:stretch/>
        </p:blipFill>
        <p:spPr>
          <a:xfrm>
            <a:off x="2362320" y="3733920"/>
            <a:ext cx="42670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1T23:49:53Z</dcterms:created>
  <dc:creator>user</dc:creator>
  <dc:description/>
  <dc:language>en-US</dc:language>
  <cp:lastModifiedBy>Mike</cp:lastModifiedBy>
  <dcterms:modified xsi:type="dcterms:W3CDTF">2012-07-05T21:08:55Z</dcterms:modified>
  <cp:revision>12</cp:revision>
  <dc:subject/>
  <dc:title>Slide 1</dc:title>
</cp:coreProperties>
</file>